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4.jpeg" ContentType="image/jpeg"/>
  <Override PartName="/ppt/media/image25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explode.wav" ContentType="audio/x-wav"/>
  <Override PartName="/ppt/media/image8.jpeg" ContentType="image/jpeg"/>
  <Override PartName="/ppt/media/image10.jpeg" ContentType="image/jpeg"/>
  <Override PartName="/ppt/media/image5.png" ContentType="image/png"/>
  <Override PartName="/ppt/media/image26.jpeg" ContentType="image/jpeg"/>
  <Override PartName="/ppt/media/image28.jpeg" ContentType="image/jpeg"/>
  <Override PartName="/ppt/media/image27.gif" ContentType="image/gif"/>
  <Override PartName="/ppt/media/image1.jpeg" ContentType="image/jpeg"/>
  <Override PartName="/ppt/media/image22.jpeg" ContentType="image/jpeg"/>
  <Override PartName="/ppt/media/image30.gif" ContentType="image/gif"/>
  <Override PartName="/ppt/media/image11.jpeg" ContentType="image/jpeg"/>
  <Override PartName="/ppt/media/image6.jpeg" ContentType="image/jpeg"/>
  <Override PartName="/ppt/media/image16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4.wmf" ContentType="image/x-wmf"/>
  <Override PartName="/ppt/media/LASER.WAV" ContentType="audio/x-wav"/>
  <Override PartName="/ppt/media/image29.gif" ContentType="image/gif"/>
  <Override PartName="/ppt/media/image15.jpeg" ContentType="image/jpeg"/>
  <Override PartName="/ppt/media/image9.gif" ContentType="image/gif"/>
  <Override PartName="/ppt/media/TYPE.WAV" ContentType="audio/x-wav"/>
  <Override PartName="/ppt/media/image17.jpeg" ContentType="image/jpeg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666-D7F8-4C50-9C2C-DECB7F07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5A7-6549-411B-844D-81C67786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90E-2A0D-44E2-BB14-0CD2A951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91B-9303-473A-886C-EC2F0229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942-F196-4683-9A58-80F5F5AE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BDF-55B7-4FA9-8889-118B0EC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535-7E33-4BE7-AA2F-43A6B03A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2FC-937B-4428-B542-35CD567A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4B5-1B1C-44CD-B0CC-2C15C4A1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157-F842-4680-BB9D-8B06E9BB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673-FE37-4223-9CD2-E8CC9F5F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5AB-2118-4A62-BE9B-CB899A38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3EB0-96F4-4BCA-BBC8-9C4998E74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7.jpeg"/><Relationship Id="rId4" Type="http://schemas.openxmlformats.org/officeDocument/2006/relationships/image" Target="../media/image15.jpeg"/><Relationship Id="rId5" Type="http://schemas.openxmlformats.org/officeDocument/2006/relationships/image" Target="../media/image3.jpeg"/><Relationship Id="rId6" Type="http://schemas.openxmlformats.org/officeDocument/2006/relationships/image" Target="../media/image7.jpeg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alzaabi%20mohammed/&#1575;&#1604;&#1578;&#1602;&#1610;&#1610;&#1605;&#1575;&#1578;/unit-sup%20port/&#1605;&#1606;&#1588;&#1608;&#1585;%20&#1575;&#1604;&#1593;&#1604;&#1608;&#1605;.doc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alzaabi%20mohammed/&#1575;&#1604;&#1578;&#1602;&#1610;&#1610;&#1605;&#1575;&#1578;/&#1602;&#1610;&#1575;&#1587;%20&#1575;&#1581;&#1578;&#1610;&#1575;&#1580;&#1575;&#1578;%20&#1575;&#1604;&#1591;&#1604;&#1575;&#1576;.ppt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205000"/>
            <a:ext cx="66978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3333ff"/>
                </a:solidFill>
                <a:latin typeface="Arial"/>
              </a:rPr>
              <a:t>أعضائي وأجهزت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3280" y="4257720"/>
            <a:ext cx="60483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Monotype Koufi"/>
              </a:rPr>
              <a:t>الصف الخامس الأساس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Monotype Koufi"/>
              <a:ea typeface="Monotype Kouf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43280" y="5589720"/>
            <a:ext cx="604836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3300">
                      <a:alpha val="50000"/>
                    </a:srgbClr>
                  </a:outerShdw>
                </a:effectLst>
                <a:latin typeface="Monotype Koufi"/>
              </a:rPr>
              <a:t>مادة العلوم العام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3300">
                    <a:alpha val="50000"/>
                  </a:srgbClr>
                </a:outerShdw>
              </a:effectLst>
              <a:latin typeface="Monotype Koufi"/>
              <a:ea typeface="Monotype Koufi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445000"/>
            <a:ext cx="266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محمـد بن سالم الزعابــــــ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سليمان بن عباد للتعليم الأساس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33336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سلطنة عم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وزارة التربية والتعلي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ديرية العامة للتربية والتعلي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لمحافظة الباطنة شم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87640" y="115920"/>
            <a:ext cx="540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تقسيم العمل بين طلاب المجموعة الثاني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90792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أو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90792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يقوم بتعريف الجهاز الهضمي ـ مقابلة طبي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060640"/>
            <a:ext cx="936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ثان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2060640"/>
            <a:ext cx="4392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جمع معلومات عن الأعضاء التي يتكون منها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جهاز الهضمي ـ صنع نموذج لأحد الأعض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321300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ثال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321300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تعرف على وظيفة كل عضو من الأعض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تي يتكون منها الجهاز الهضمي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4363920"/>
            <a:ext cx="936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راب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4363920"/>
            <a:ext cx="4392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ذكر الأمراض التي تصيب الجهاز الهضم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وأسباب كل مر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67640" y="551664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خام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551664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جمع معلومات عن طرق المحافظة على الجها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هضمي ـ كتابة تقرير مبسط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 rot="19956000">
            <a:off x="394920" y="383760"/>
            <a:ext cx="205740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جموع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جهاز الهضم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</p:spTree>
  </p:cSld>
  <p:transition spd="slow">
    <p:diamond/>
    <p:sndAc>
      <p:stSnd>
        <p:snd r:embed="rId1" name="chimes.wav"/>
      </p:stSnd>
    </p:sndAc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87640" y="115920"/>
            <a:ext cx="540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تقسيم العمل بين طلاب المجموعة الثالث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7640" y="90792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أو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90792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يقوم بتعريف الجهاز التنفسي ـ مقابلة طبي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060640"/>
            <a:ext cx="936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ثان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2060640"/>
            <a:ext cx="4392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جمع معلومات عن الأعضاء التي يتكون منها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جهاز التنفسي ـ صنع نموذج لأحد الأعض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321300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ثال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321300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تعرف على وظيفة كل عضو من الأعض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تي يتكون منها الجهاز التنفسي ـ إحضار صور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363920"/>
            <a:ext cx="936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راب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4363920"/>
            <a:ext cx="4392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ذكر الأمراض التي تصيب الجهاز التنفس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وأسباب كل مر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551664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خام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51664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جمع معلومات عن طرق المحافظة على الجها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تنفسي ـ كتابة تقرير مبسط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 rot="19956000">
            <a:off x="394920" y="383760"/>
            <a:ext cx="205740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جموع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جهاز التنفس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</p:spTree>
  </p:cSld>
  <p:transition spd="slow">
    <p:diamond/>
    <p:sndAc>
      <p:stSnd>
        <p:snd r:embed="rId1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987640" y="115920"/>
            <a:ext cx="540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تقسيم العمل بين طلاب المجموعة الرابع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7640" y="907920"/>
            <a:ext cx="936720" cy="936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أو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907920"/>
            <a:ext cx="4392720" cy="936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يقوم بتعريف الجهاز الدوري ـ مقابلة طبي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060640"/>
            <a:ext cx="936360" cy="936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ثان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2060640"/>
            <a:ext cx="4392360" cy="936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جمع معلومات عن الأعضاء التي يتكون منها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جهاز الدوري ـ صنع نموذج لأحد الأعض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7640" y="3213000"/>
            <a:ext cx="936720" cy="936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ثال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3213000"/>
            <a:ext cx="4392720" cy="936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تعرف على وظيفة كل عضو من الأعض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تي يتكون منها الجهاز الدوري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363920"/>
            <a:ext cx="936360" cy="936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راب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363920"/>
            <a:ext cx="4392360" cy="936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ذكر الأمراض التي تصيب الجهاز ال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وأسباب كل مرض ـ جمع صو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67640" y="5516640"/>
            <a:ext cx="936720" cy="936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خام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5516640"/>
            <a:ext cx="4392720" cy="936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جمع معلومات عن طرق المحافظة على الجها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دوري ـ كتابة تقرير مبسط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 rot="19956000">
            <a:off x="394920" y="383760"/>
            <a:ext cx="205740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جموع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جهاز الدور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987640" y="115920"/>
            <a:ext cx="540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تقسيم العمل بين طلاب المجموعة الخامس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67640" y="90792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أو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90792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يقوم بتعريف الجهاز الإخراجي ـ مقابلة طبي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2060640"/>
            <a:ext cx="936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ثان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35280" y="2060640"/>
            <a:ext cx="4392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جمع معلومات عن الأعضاء التي يتكون منها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جهاز الإخراجي ـ صنع نموذج لأحد الأعض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67640" y="321300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ثال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321300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تعرف على وظيفة كل عضو من الأعض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تي يتكون منها الجهاز الإخراجي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4363920"/>
            <a:ext cx="936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راب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363920"/>
            <a:ext cx="4392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ذكر الأمراض التي تصيب الجهاز الإخراج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وأسباب كل مرض ـ جمع صو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551664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خام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551664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جمع معلومات عن طرق المحافظة على الجها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إخراجي ـ كتابة تقرير مبسط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 rot="19956000">
            <a:off x="394920" y="383760"/>
            <a:ext cx="205740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جموع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جهاز الإخراج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987640" y="115920"/>
            <a:ext cx="540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تقسيم العمل بين طلاب المجموعة السادس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90792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أو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90792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سيقوم بتعريف الجهاز العصبي ـ مقابلة طبي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2060640"/>
            <a:ext cx="936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ثان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2060640"/>
            <a:ext cx="4392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يجمع معلومات عن الأعضاء التي يتكون منها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جهاز العصبي ـ صنع نموذج لأحد الأعض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321300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ثال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321300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يتعرف على وظيفة كل عضو من الأعض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تي يتكون منها الجهاز العصبي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4363920"/>
            <a:ext cx="936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راب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4363920"/>
            <a:ext cx="4392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يذكر الأمراض التي تصيب الجهاز العصب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وأسباب كل مرض ـ جمع صو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67640" y="551664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خام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551664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يجمع معلومات عن طرق المحافظة على الجها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00"/>
                </a:solidFill>
                <a:latin typeface="Arial"/>
              </a:rPr>
              <a:t>العصبي ـ كتابة تقرير مبسط عن الجهاز العصبي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 rot="19956000">
            <a:off x="394920" y="383760"/>
            <a:ext cx="205740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ecoType Naskh Variants"/>
              </a:rPr>
              <a:t>مجموع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ecoType Naskh Variants"/>
              </a:rPr>
              <a:t>الجهاز العصب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ecoType Naskh Variants"/>
              <a:ea typeface="DecoType Naskh Variants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932360" y="333360"/>
            <a:ext cx="3527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</a:rPr>
              <a:t>أسئلة لقياس فهم الطلا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847800" y="1483920"/>
            <a:ext cx="1084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ن خلال دراستك للجهاز الهيكلي ، ادرس الشكل الذي أمامك جيداً ، ثم أجب عن الأسئلة التي تليه 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أ ـ أكتب أسماء الأعضاء المشار إليها بالأسهم 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ب ـ ما وظيفة العضو المشار إليه بالرمز ( أ ) 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3279600"/>
            <a:ext cx="4394520" cy="2057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87520" y="4081320"/>
            <a:ext cx="47484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80"/>
                </a:solidFill>
                <a:latin typeface="Times New Roman"/>
                <a:cs typeface="Times New Roman"/>
              </a:rPr>
              <a:t>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67000" y="4916520"/>
            <a:ext cx="47484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06760" y="3508200"/>
            <a:ext cx="47484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93920" y="5157720"/>
            <a:ext cx="9493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44880" y="3738600"/>
            <a:ext cx="951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4149720"/>
            <a:ext cx="431640" cy="43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08720" y="4076640"/>
            <a:ext cx="431640" cy="4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3933720"/>
            <a:ext cx="431640" cy="4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8000" y="1292400"/>
            <a:ext cx="220968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411280" y="765000"/>
            <a:ext cx="5897520" cy="838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اختر الإجابة الصحيحة مما يلي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1844640"/>
            <a:ext cx="594360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وم بحماية القلب والرئتين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2935440"/>
            <a:ext cx="4267080" cy="761760"/>
          </a:xfrm>
          <a:custGeom>
            <a:avLst/>
            <a:gdLst>
              <a:gd name="textAreaLeft" fmla="*/ 89640 w 4267080"/>
              <a:gd name="textAreaRight" fmla="*/ 4177440 w 4267080"/>
              <a:gd name="textAreaTop" fmla="*/ 89640 h 761760"/>
              <a:gd name="textAreaBottom" fmla="*/ 672120 h 761760"/>
            </a:gdLst>
            <a:ahLst/>
            <a:rect l="textAreaLeft" t="textAreaTop" r="textAreaRight" b="textAreaBottom"/>
            <a:pathLst>
              <a:path w="1209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7348" y="21600"/>
                </a:lnTo>
                <a:arcTo wR="3600" hR="3600" stAng="10800000" swAng="5400000"/>
                <a:lnTo>
                  <a:pt x="120948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 ـ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4030560"/>
            <a:ext cx="4267080" cy="838440"/>
          </a:xfrm>
          <a:custGeom>
            <a:avLst/>
            <a:gdLst>
              <a:gd name="textAreaLeft" fmla="*/ 98640 w 4267080"/>
              <a:gd name="textAreaRight" fmla="*/ 4168440 w 4267080"/>
              <a:gd name="textAreaTop" fmla="*/ 98640 h 838440"/>
              <a:gd name="textAreaBottom" fmla="*/ 739800 h 838440"/>
            </a:gdLst>
            <a:ahLst/>
            <a:rect l="textAreaLeft" t="textAreaTop" r="textAreaRight" b="textAreaBottom"/>
            <a:pathLst>
              <a:path w="1098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6291" y="21600"/>
                </a:lnTo>
                <a:arcTo wR="3600" hR="3600" stAng="10800000" swAng="5400000"/>
                <a:lnTo>
                  <a:pt x="10989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ب ـ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فص الصد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5183280"/>
            <a:ext cx="4267080" cy="838080"/>
          </a:xfrm>
          <a:custGeom>
            <a:avLst/>
            <a:gdLst>
              <a:gd name="textAreaLeft" fmla="*/ 98640 w 4267080"/>
              <a:gd name="textAreaRight" fmla="*/ 4168440 w 426708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10993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6338" y="21600"/>
                </a:lnTo>
                <a:arcTo wR="3600" hR="3600" stAng="10800000" swAng="5400000"/>
                <a:lnTo>
                  <a:pt x="109938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ج ـ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ود الفق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450200" y="4114800"/>
            <a:ext cx="1218960" cy="609480"/>
          </a:xfrm>
          <a:custGeom>
            <a:avLst/>
            <a:gdLst>
              <a:gd name="textAreaLeft" fmla="*/ 190440 w 1218960"/>
              <a:gd name="textAreaRight" fmla="*/ 1044360 w 1218960"/>
              <a:gd name="textAreaTop" fmla="*/ 129960 h 609480"/>
              <a:gd name="textAreaBottom" fmla="*/ 47952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4612"/>
                </a:moveTo>
                <a:lnTo>
                  <a:pt x="16200" y="4612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988"/>
                </a:lnTo>
                <a:lnTo>
                  <a:pt x="3375" y="16988"/>
                </a:lnTo>
                <a:close/>
              </a:path>
              <a:path w="21600" h="21600">
                <a:moveTo>
                  <a:pt x="0" y="4612"/>
                </a:moveTo>
                <a:lnTo>
                  <a:pt x="675" y="4612"/>
                </a:lnTo>
                <a:lnTo>
                  <a:pt x="675" y="16988"/>
                </a:lnTo>
                <a:lnTo>
                  <a:pt x="0" y="16988"/>
                </a:lnTo>
                <a:close/>
              </a:path>
              <a:path w="21600" h="21600">
                <a:moveTo>
                  <a:pt x="1350" y="4612"/>
                </a:moveTo>
                <a:lnTo>
                  <a:pt x="2700" y="4612"/>
                </a:lnTo>
                <a:lnTo>
                  <a:pt x="2700" y="16988"/>
                </a:lnTo>
                <a:lnTo>
                  <a:pt x="1350" y="16988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7" name="chimes.wav"/>
      </p:stSnd>
    </p:sndAc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8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1728720" cy="2089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 flipV="1">
            <a:off x="1115640" y="2060280"/>
            <a:ext cx="1297080" cy="1584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03640" y="1268280"/>
            <a:ext cx="511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abic Typesetting"/>
              </a:rPr>
              <a:t>ماذا يسمى العضو المشار إليه بالس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abic Typesetting"/>
              <a:ea typeface="Arabic Typesetting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abic Typesetting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abic Typesetting"/>
              </a:rPr>
              <a:t>في الصورة التي أمامك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abic Typesetting"/>
              <a:ea typeface="Arabic Typesetting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476360" y="3787920"/>
            <a:ext cx="5113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abic Typesetting"/>
              </a:rPr>
              <a:t>المفص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abic Typesetting"/>
              <a:ea typeface="Arabic Typesetting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2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2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020000" y="692280"/>
            <a:ext cx="1227240" cy="2103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1944720" cy="2376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3789360"/>
            <a:ext cx="1944720" cy="223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1729080" cy="2016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2916360" y="1700280"/>
            <a:ext cx="38890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DecoType Naskh Variants"/>
              </a:rPr>
              <a:t>أيٍ من الأعضاء الآت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DecoType Naskh Variants"/>
              </a:rPr>
              <a:t>يعتبر من الجهاز الهيكلي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DecoType Naskh Variants"/>
              <a:ea typeface="DecoType Naskh Variants"/>
            </a:endParaRPr>
          </a:p>
        </p:txBody>
      </p:sp>
    </p:spTree>
  </p:cSld>
  <p:transition spd="slow">
    <p:diamond/>
    <p:sndAc>
      <p:stSnd>
        <p:snd r:embed="rId5" name="chimes.wav"/>
      </p:stSnd>
    </p:sndAc>
  </p:transition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6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6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6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6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58920" y="620640"/>
            <a:ext cx="645948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Andalus"/>
              </a:rPr>
              <a:t>الجهاز المسؤول عن تبادل الهواء بين الجسم والبيئة المحيطة به هو 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38760" y="2006640"/>
            <a:ext cx="105912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ها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هيك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8280" y="2009880"/>
            <a:ext cx="105912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ها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عص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08160" y="2009880"/>
            <a:ext cx="105912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ها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تنفس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2009880"/>
            <a:ext cx="105876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ها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هضم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4360" y="1557360"/>
            <a:ext cx="0" cy="431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64000" y="1557360"/>
            <a:ext cx="0" cy="431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63640" y="1557360"/>
            <a:ext cx="0" cy="431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64000" y="1557360"/>
            <a:ext cx="0" cy="431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3716280"/>
            <a:ext cx="645948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Andalus"/>
              </a:rPr>
              <a:t>الجهاز الذي يشرف على جميع الوظائف التي يقوم بها الجسم هو 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38760" y="5102280"/>
            <a:ext cx="105912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ها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هيك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68280" y="5105520"/>
            <a:ext cx="105912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ها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عص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08160" y="5105520"/>
            <a:ext cx="105912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ها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تنفس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59280" y="5105520"/>
            <a:ext cx="105876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ها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هضم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4360" y="465300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4000" y="465300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465300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65300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3147120" y="2961360"/>
            <a:ext cx="792000" cy="431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1367640" y="6057000"/>
            <a:ext cx="792000" cy="432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3640" y="2422440"/>
            <a:ext cx="331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9999"/>
                </a:solidFill>
                <a:uFillTx/>
                <a:latin typeface="Arial"/>
                <a:cs typeface="Arabic Transparent"/>
                <a:hlinkClick r:id="rId2"/>
              </a:rPr>
              <a:t>المنشور الخاص ب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3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211640" y="333360"/>
            <a:ext cx="4392720" cy="647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DecoType Naskh"/>
              </a:rPr>
              <a:t>أكمل المخطط بما هو مناسب في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72360" y="1341360"/>
            <a:ext cx="2160360" cy="432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مكونات الجهاز الهيكل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2060640"/>
            <a:ext cx="216036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72360" y="2924280"/>
            <a:ext cx="216036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3789360"/>
            <a:ext cx="216036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72360" y="4653000"/>
            <a:ext cx="216036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72360" y="5518080"/>
            <a:ext cx="216036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مكونات الجهاز الإخراج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56000" y="5518080"/>
            <a:ext cx="144000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5516640"/>
            <a:ext cx="143964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516640"/>
            <a:ext cx="144000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333360"/>
            <a:ext cx="2160360" cy="431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Arial"/>
              </a:rPr>
              <a:t>مكونات الجهاز التنفس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052640"/>
            <a:ext cx="216036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916280"/>
            <a:ext cx="216036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781360"/>
            <a:ext cx="216036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4920" y="1846440"/>
            <a:ext cx="2160720" cy="431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مكونات الجهاز الدور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2565360"/>
            <a:ext cx="216072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429000"/>
            <a:ext cx="216072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4920" y="4294080"/>
            <a:ext cx="2160720" cy="6476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620640"/>
            <a:ext cx="432000" cy="936720"/>
          </a:xfrm>
          <a:custGeom>
            <a:avLst/>
            <a:gdLst>
              <a:gd name="textAreaLeft" fmla="*/ 57600 w 432000"/>
              <a:gd name="textAreaRight" fmla="*/ 374400 w 432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1555920"/>
            <a:ext cx="432000" cy="936360"/>
          </a:xfrm>
          <a:custGeom>
            <a:avLst/>
            <a:gdLst>
              <a:gd name="textAreaLeft" fmla="*/ 57600 w 432000"/>
              <a:gd name="textAreaRight" fmla="*/ 374400 w 43200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2421000"/>
            <a:ext cx="432000" cy="936720"/>
          </a:xfrm>
          <a:custGeom>
            <a:avLst/>
            <a:gdLst>
              <a:gd name="textAreaLeft" fmla="*/ 57600 w 432000"/>
              <a:gd name="textAreaRight" fmla="*/ 374400 w 432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60840" y="2060640"/>
            <a:ext cx="432000" cy="936720"/>
          </a:xfrm>
          <a:custGeom>
            <a:avLst/>
            <a:gdLst>
              <a:gd name="textAreaLeft" fmla="*/ 57600 w 432000"/>
              <a:gd name="textAreaRight" fmla="*/ 374400 w 432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60840" y="2995560"/>
            <a:ext cx="432000" cy="936720"/>
          </a:xfrm>
          <a:custGeom>
            <a:avLst/>
            <a:gdLst>
              <a:gd name="textAreaLeft" fmla="*/ 57600 w 432000"/>
              <a:gd name="textAreaRight" fmla="*/ 374400 w 432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60840" y="3860640"/>
            <a:ext cx="432000" cy="936720"/>
          </a:xfrm>
          <a:custGeom>
            <a:avLst/>
            <a:gdLst>
              <a:gd name="textAreaLeft" fmla="*/ 57600 w 432000"/>
              <a:gd name="textAreaRight" fmla="*/ 374400 w 432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580000" y="6165000"/>
            <a:ext cx="936720" cy="360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3564000" y="6165000"/>
            <a:ext cx="936720" cy="360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619280" y="6165000"/>
            <a:ext cx="936720" cy="360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3573360"/>
            <a:ext cx="2592360" cy="180036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32000" y="1413000"/>
            <a:ext cx="289080" cy="718920"/>
          </a:xfrm>
          <a:custGeom>
            <a:avLst/>
            <a:gdLst>
              <a:gd name="textAreaLeft" fmla="*/ 0 w 289080"/>
              <a:gd name="textAreaRight" fmla="*/ 289080 w 2890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532000" y="2133720"/>
            <a:ext cx="289080" cy="718920"/>
          </a:xfrm>
          <a:custGeom>
            <a:avLst/>
            <a:gdLst>
              <a:gd name="textAreaLeft" fmla="*/ 0 w 289080"/>
              <a:gd name="textAreaRight" fmla="*/ 289080 w 2890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532000" y="3068640"/>
            <a:ext cx="289080" cy="719280"/>
          </a:xfrm>
          <a:custGeom>
            <a:avLst/>
            <a:gdLst>
              <a:gd name="textAreaLeft" fmla="*/ 0 w 289080"/>
              <a:gd name="textAreaRight" fmla="*/ 289080 w 2890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532000" y="3789360"/>
            <a:ext cx="289080" cy="719280"/>
          </a:xfrm>
          <a:custGeom>
            <a:avLst/>
            <a:gdLst>
              <a:gd name="textAreaLeft" fmla="*/ 0 w 289080"/>
              <a:gd name="textAreaRight" fmla="*/ 289080 w 2890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1" name="chimes.wav"/>
      </p:stSnd>
    </p:sndAc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3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919760" y="333360"/>
            <a:ext cx="38289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Extensions"/>
              </a:rPr>
              <a:t>أكتب اسم كل جهاز أمام ما يناسبه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Extensions"/>
              <a:ea typeface="DecoType Naskh Extension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3113280" cy="1506600"/>
          </a:xfrm>
          <a:prstGeom prst="rect">
            <a:avLst/>
          </a:prstGeom>
          <a:ln w="28440">
            <a:solidFill>
              <a:srgbClr val="000000"/>
            </a:solidFill>
            <a:prstDash val="lgDash"/>
            <a:miter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305080" cy="3286080"/>
          </a:xfrm>
          <a:prstGeom prst="rect">
            <a:avLst/>
          </a:prstGeom>
          <a:ln w="28440">
            <a:solidFill>
              <a:srgbClr val="000000"/>
            </a:solidFill>
            <a:prstDash val="lgDash"/>
            <a:miter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580000" y="4335480"/>
            <a:ext cx="3095640" cy="1469880"/>
          </a:xfrm>
          <a:prstGeom prst="rect">
            <a:avLst/>
          </a:prstGeom>
          <a:ln w="28440">
            <a:solidFill>
              <a:srgbClr val="000000"/>
            </a:solidFill>
            <a:prstDash val="lgDash"/>
            <a:miter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916360" y="219240"/>
            <a:ext cx="1755720" cy="2633400"/>
          </a:xfrm>
          <a:prstGeom prst="rect">
            <a:avLst/>
          </a:prstGeom>
          <a:ln w="28440">
            <a:solidFill>
              <a:srgbClr val="000000"/>
            </a:solidFill>
            <a:prstDash val="lgDash"/>
            <a:miter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520560" y="4221000"/>
            <a:ext cx="1747800" cy="1951200"/>
          </a:xfrm>
          <a:prstGeom prst="rect">
            <a:avLst/>
          </a:prstGeom>
          <a:ln w="28440">
            <a:solidFill>
              <a:srgbClr val="000000"/>
            </a:solidFill>
            <a:prstDash val="lgDash"/>
            <a:miter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3708360" y="3500280"/>
            <a:ext cx="792360" cy="2592720"/>
          </a:xfrm>
          <a:prstGeom prst="rect">
            <a:avLst/>
          </a:prstGeom>
          <a:ln w="28440">
            <a:solidFill>
              <a:srgbClr val="000000"/>
            </a:solidFill>
            <a:prstDash val="lgDash"/>
            <a:miter/>
          </a:ln>
        </p:spPr>
      </p:pic>
      <p:sp>
        <p:nvSpPr>
          <p:cNvPr id="258" name=""/>
          <p:cNvSpPr/>
          <p:nvPr/>
        </p:nvSpPr>
        <p:spPr>
          <a:xfrm>
            <a:off x="399960" y="3632040"/>
            <a:ext cx="201780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6310440"/>
            <a:ext cx="20178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0560" y="6237360"/>
            <a:ext cx="20178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54560" y="3141720"/>
            <a:ext cx="20178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90720" y="2962440"/>
            <a:ext cx="20178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6360" y="5950080"/>
            <a:ext cx="20178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8000" y="6021360"/>
            <a:ext cx="503280" cy="720720"/>
          </a:xfrm>
          <a:custGeom>
            <a:avLst/>
            <a:gdLst>
              <a:gd name="textAreaLeft" fmla="*/ 144360 w 503280"/>
              <a:gd name="textAreaRight" fmla="*/ 431280 w 50328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79640" y="3335400"/>
            <a:ext cx="503280" cy="720720"/>
          </a:xfrm>
          <a:custGeom>
            <a:avLst/>
            <a:gdLst>
              <a:gd name="textAreaLeft" fmla="*/ 144360 w 503280"/>
              <a:gd name="textAreaRight" fmla="*/ 431280 w 50328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2674800"/>
            <a:ext cx="503280" cy="720720"/>
          </a:xfrm>
          <a:custGeom>
            <a:avLst/>
            <a:gdLst>
              <a:gd name="textAreaLeft" fmla="*/ 144360 w 503280"/>
              <a:gd name="textAreaRight" fmla="*/ 431280 w 50328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5950080"/>
            <a:ext cx="503280" cy="720720"/>
          </a:xfrm>
          <a:custGeom>
            <a:avLst/>
            <a:gdLst>
              <a:gd name="textAreaLeft" fmla="*/ 144360 w 503280"/>
              <a:gd name="textAreaRight" fmla="*/ 431280 w 50328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12000" y="2852640"/>
            <a:ext cx="503280" cy="720720"/>
          </a:xfrm>
          <a:custGeom>
            <a:avLst/>
            <a:gdLst>
              <a:gd name="textAreaLeft" fmla="*/ 144360 w 503280"/>
              <a:gd name="textAreaRight" fmla="*/ 431280 w 50328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85080" y="5661000"/>
            <a:ext cx="503280" cy="720720"/>
          </a:xfrm>
          <a:custGeom>
            <a:avLst/>
            <a:gdLst>
              <a:gd name="textAreaLeft" fmla="*/ 144360 w 503280"/>
              <a:gd name="textAreaRight" fmla="*/ 431280 w 50328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7" name="chimes.wav"/>
      </p:stSnd>
    </p:sndAc>
  </p:transition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6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6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2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340000" y="620640"/>
            <a:ext cx="3308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DecoType Naskh Swashes"/>
              </a:rPr>
              <a:t>المصادر والمراج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DecoType Naskh Swashes"/>
              <a:ea typeface="DecoType Naskh Swashes"/>
            </a:endParaRPr>
          </a:p>
        </p:txBody>
      </p:sp>
      <p:sp>
        <p:nvSpPr>
          <p:cNvPr id="271" name=""/>
          <p:cNvSpPr/>
          <p:nvPr/>
        </p:nvSpPr>
        <p:spPr>
          <a:xfrm>
            <a:off x="3348000" y="2852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11640" y="1916280"/>
            <a:ext cx="475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أنتـــــــــــــــــــرن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3141720"/>
            <a:ext cx="475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كتاب المدر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40360" y="4437000"/>
            <a:ext cx="47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بوابة التعليمية لسلطنة عم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028960" y="4191120"/>
            <a:ext cx="518148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3137040" y="1635120"/>
            <a:ext cx="2895480" cy="10317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224080" y="2806560"/>
            <a:ext cx="4572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Monotype Koufi"/>
              </a:rPr>
              <a:t>شكراً على حسن الاستما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Monotype Koufi"/>
              <a:ea typeface="Monotype Koufi"/>
            </a:endParaRPr>
          </a:p>
        </p:txBody>
      </p:sp>
    </p:spTree>
  </p:cSld>
  <p:transition spd="slow">
    <p:diamond/>
    <p:sndAc>
      <p:stSnd>
        <p:snd r:embed="rId6" name="chimes.wav"/>
      </p:stSnd>
    </p:sndAc>
  </p:transition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3640" y="2925720"/>
            <a:ext cx="331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9999"/>
                </a:solidFill>
                <a:uFillTx/>
                <a:latin typeface="Arial"/>
                <a:cs typeface="Arabic Transparent"/>
                <a:hlinkClick r:id="rId2"/>
              </a:rPr>
              <a:t>قياس احتياجات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627280" y="619200"/>
            <a:ext cx="374508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DecoType Naskh Swashes"/>
              </a:rPr>
              <a:t>الهدف الأساسي 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DecoType Naskh Swashes"/>
              <a:ea typeface="DecoType Naskh Swashes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635200"/>
            <a:ext cx="7200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صف الدور الذي تلعبه أجهزة </a:t>
            </a: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جس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مساعدة الإنسان </a:t>
            </a: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الحيوانات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raditional Arabic"/>
              </a:rPr>
              <a:t> كي تنم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تتكاثر </a:t>
            </a: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تلبي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raditional Arabic"/>
              </a:rPr>
              <a:t> حاجاتها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56360" y="189000"/>
            <a:ext cx="2592360" cy="2087640"/>
          </a:xfrm>
          <a:prstGeom prst="cloudCallout">
            <a:avLst>
              <a:gd name="adj1" fmla="val -67759"/>
              <a:gd name="adj2" fmla="val 87032"/>
            </a:avLst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أسئل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الوح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89000"/>
            <a:ext cx="5688000" cy="1008000"/>
          </a:xfrm>
          <a:custGeom>
            <a:avLst/>
            <a:gdLst>
              <a:gd name="textAreaLeft" fmla="*/ 118800 w 5688000"/>
              <a:gd name="textAreaRight" fmla="*/ 5569200 w 568800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1218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8250" y="21600"/>
                </a:lnTo>
                <a:arcTo wR="3600" hR="3600" stAng="10800000" swAng="5400000"/>
                <a:lnTo>
                  <a:pt x="12185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ا سبب التغيرات التي تطرأ على جسم الإنسان مث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حب الشباب ونمو الشعر على الجلد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268280"/>
            <a:ext cx="5688000" cy="1008360"/>
          </a:xfrm>
          <a:custGeom>
            <a:avLst/>
            <a:gdLst>
              <a:gd name="textAreaLeft" fmla="*/ 118800 w 5688000"/>
              <a:gd name="textAreaRight" fmla="*/ 5569200 w 568800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12180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8206" y="21600"/>
                </a:lnTo>
                <a:arcTo wR="3600" hR="3600" stAng="10800000" swAng="5400000"/>
                <a:lnTo>
                  <a:pt x="12180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صف بنية ووظيفة الأعضاء الرئيسية للجهاز الهيك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دوري والتنفسي والعصبي والهضمي والإخراجي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349360"/>
            <a:ext cx="5688000" cy="1008360"/>
          </a:xfrm>
          <a:custGeom>
            <a:avLst/>
            <a:gdLst>
              <a:gd name="textAreaLeft" fmla="*/ 118800 w 5688000"/>
              <a:gd name="textAreaRight" fmla="*/ 5569200 w 568800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12180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8206" y="21600"/>
                </a:lnTo>
                <a:arcTo wR="3600" hR="3600" stAng="10800000" swAng="5400000"/>
                <a:lnTo>
                  <a:pt x="12180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صف الدور الذي يقوم به الجلد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421000"/>
            <a:ext cx="2808360" cy="3816360"/>
          </a:xfrm>
          <a:custGeom>
            <a:avLst/>
            <a:gdLst>
              <a:gd name="textAreaLeft" fmla="*/ 330840 w 2808360"/>
              <a:gd name="textAreaRight" fmla="*/ 2477520 w 2808360"/>
              <a:gd name="textAreaTop" fmla="*/ 330840 h 3816360"/>
              <a:gd name="textAreaBottom" fmla="*/ 3485520 h 3816360"/>
            </a:gdLst>
            <a:ahLst/>
            <a:rect l="textAreaLeft" t="textAreaTop" r="textAreaRight" b="textAreaBottom"/>
            <a:pathLst>
              <a:path w="21600" h="29352">
                <a:moveTo>
                  <a:pt x="3600" y="0"/>
                </a:moveTo>
                <a:arcTo wR="3600" hR="3600" stAng="0" swAng="5400000"/>
                <a:lnTo>
                  <a:pt x="0" y="25752"/>
                </a:lnTo>
                <a:arcTo wR="3600" hR="3600" stAng="16200000" swAng="5400000"/>
                <a:lnTo>
                  <a:pt x="18000" y="29352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رف كلاً من الجهاز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هيك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هض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دو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نف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عص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إخراجي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429000"/>
            <a:ext cx="5688000" cy="1008000"/>
          </a:xfrm>
          <a:custGeom>
            <a:avLst/>
            <a:gdLst>
              <a:gd name="textAreaLeft" fmla="*/ 118800 w 5688000"/>
              <a:gd name="textAreaRight" fmla="*/ 5569200 w 568800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1218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8250" y="21600"/>
                </a:lnTo>
                <a:arcTo wR="3600" hR="3600" stAng="10800000" swAng="5400000"/>
                <a:lnTo>
                  <a:pt x="12185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هم أفراد المجتمع المحلي الذين يعملون ف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جالات ذات علاقة بالعلوم والتقانة 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510080"/>
            <a:ext cx="5688000" cy="1008000"/>
          </a:xfrm>
          <a:custGeom>
            <a:avLst/>
            <a:gdLst>
              <a:gd name="textAreaLeft" fmla="*/ 118800 w 5688000"/>
              <a:gd name="textAreaRight" fmla="*/ 5569200 w 568800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1218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8250" y="21600"/>
                </a:lnTo>
                <a:arcTo wR="3600" hR="3600" stAng="10800000" swAng="5400000"/>
                <a:lnTo>
                  <a:pt x="12185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اذا سيحدث لو تعطل أحد هذه الأجهزة عن العم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589720"/>
            <a:ext cx="5688000" cy="1008000"/>
          </a:xfrm>
          <a:custGeom>
            <a:avLst/>
            <a:gdLst>
              <a:gd name="textAreaLeft" fmla="*/ 118800 w 5688000"/>
              <a:gd name="textAreaRight" fmla="*/ 5569200 w 568800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1218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8250" y="21600"/>
                </a:lnTo>
                <a:arcTo wR="3600" hR="3600" stAng="10800000" swAng="5400000"/>
                <a:lnTo>
                  <a:pt x="12185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ا الأدوات والمعدات والمواد المناسبة لاستكم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استقصاء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1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4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37320" y="227160"/>
            <a:ext cx="3168720" cy="936360"/>
          </a:xfrm>
          <a:custGeom>
            <a:avLst/>
            <a:gdLst>
              <a:gd name="textAreaLeft" fmla="*/ 792000 w 3168720"/>
              <a:gd name="textAreaRight" fmla="*/ 2376720 w 3168720"/>
              <a:gd name="textAreaTop" fmla="*/ 234000 h 936360"/>
              <a:gd name="textAreaBottom" fmla="*/ 9086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سئلة المحت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98440"/>
            <a:ext cx="5587920" cy="576360"/>
          </a:xfrm>
          <a:custGeom>
            <a:avLst/>
            <a:gdLst>
              <a:gd name="textAreaLeft" fmla="*/ 67680 w 5587920"/>
              <a:gd name="textAreaRight" fmla="*/ 5520240 w 558792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20929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5699" y="21600"/>
                </a:lnTo>
                <a:arcTo wR="3600" hR="3600" stAng="10800000" swAng="5400000"/>
                <a:lnTo>
                  <a:pt x="209299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عرف كلاً من: الجهاز الهيكلي  ـ التنفسي ـ الإخراج ...الخ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955800"/>
            <a:ext cx="5587920" cy="576000"/>
          </a:xfrm>
          <a:custGeom>
            <a:avLst/>
            <a:gdLst>
              <a:gd name="textAreaLeft" fmla="*/ 67680 w 5587920"/>
              <a:gd name="textAreaRight" fmla="*/ 5520240 w 5587920"/>
              <a:gd name="textAreaTop" fmla="*/ 67680 h 576000"/>
              <a:gd name="textAreaBottom" fmla="*/ 508320 h 576000"/>
            </a:gdLst>
            <a:ahLst/>
            <a:rect l="textAreaLeft" t="textAreaTop" r="textAreaRight" b="textAreaBottom"/>
            <a:pathLst>
              <a:path w="2094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5830" y="21600"/>
                </a:lnTo>
                <a:arcTo wR="3600" hR="3600" stAng="10800000" swAng="5400000"/>
                <a:lnTo>
                  <a:pt x="20943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ما الأعضاء التي يتألف منها الجهاز الهيكلي ـ الهضمي ...الخ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760" y="1611360"/>
            <a:ext cx="5587920" cy="576360"/>
          </a:xfrm>
          <a:custGeom>
            <a:avLst/>
            <a:gdLst>
              <a:gd name="textAreaLeft" fmla="*/ 67680 w 5587920"/>
              <a:gd name="textAreaRight" fmla="*/ 5520240 w 558792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20929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5699" y="21600"/>
                </a:lnTo>
                <a:arcTo wR="3600" hR="3600" stAng="10800000" swAng="5400000"/>
                <a:lnTo>
                  <a:pt x="209299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ماذا تسمى منطقة اتصال العظام بعضها ببعض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1314360"/>
            <a:ext cx="2881440" cy="865440"/>
          </a:xfrm>
          <a:custGeom>
            <a:avLst/>
            <a:gdLst>
              <a:gd name="textAreaLeft" fmla="*/ 101880 w 2881440"/>
              <a:gd name="textAreaRight" fmla="*/ 2779560 w 2881440"/>
              <a:gd name="textAreaTop" fmla="*/ 101880 h 865440"/>
              <a:gd name="textAreaBottom" fmla="*/ 763560 h 865440"/>
            </a:gdLst>
            <a:ahLst/>
            <a:rect l="textAreaLeft" t="textAreaTop" r="textAreaRight" b="textAreaBottom"/>
            <a:pathLst>
              <a:path w="7189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295" y="21600"/>
                </a:lnTo>
                <a:arcTo wR="3600" hR="3600" stAng="10800000" swAng="5400000"/>
                <a:lnTo>
                  <a:pt x="7189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ما وظيفة القفص الصدر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معدة ـ الكلي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2263680"/>
            <a:ext cx="4249800" cy="576360"/>
          </a:xfrm>
          <a:custGeom>
            <a:avLst/>
            <a:gdLst>
              <a:gd name="textAreaLeft" fmla="*/ 67680 w 4249800"/>
              <a:gd name="textAreaRight" fmla="*/ 4182120 w 424980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1591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582" y="21600"/>
                </a:lnTo>
                <a:arcTo wR="3600" hR="3600" stAng="10800000" swAng="5400000"/>
                <a:lnTo>
                  <a:pt x="15918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ما وظيفة العمود الفقري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263680"/>
            <a:ext cx="4248000" cy="576360"/>
          </a:xfrm>
          <a:custGeom>
            <a:avLst/>
            <a:gdLst>
              <a:gd name="textAreaLeft" fmla="*/ 67680 w 4248000"/>
              <a:gd name="textAreaRight" fmla="*/ 4180320 w 424800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15911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515" y="21600"/>
                </a:lnTo>
                <a:arcTo wR="3600" hR="3600" stAng="10800000" swAng="5400000"/>
                <a:lnTo>
                  <a:pt x="15911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ما وظيفة الجمجمة ـ المخ ـ المعدة ـ الرئ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2911320"/>
            <a:ext cx="4249800" cy="576360"/>
          </a:xfrm>
          <a:custGeom>
            <a:avLst/>
            <a:gdLst>
              <a:gd name="textAreaLeft" fmla="*/ 67680 w 4249800"/>
              <a:gd name="textAreaRight" fmla="*/ 4182120 w 424980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1591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582" y="21600"/>
                </a:lnTo>
                <a:arcTo wR="3600" hR="3600" stAng="10800000" swAng="5400000"/>
                <a:lnTo>
                  <a:pt x="15918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ما وظيفة عظام الأطراف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911320"/>
            <a:ext cx="4248000" cy="576360"/>
          </a:xfrm>
          <a:custGeom>
            <a:avLst/>
            <a:gdLst>
              <a:gd name="textAreaLeft" fmla="*/ 67680 w 4248000"/>
              <a:gd name="textAreaRight" fmla="*/ 4180320 w 424800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15911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515" y="21600"/>
                </a:lnTo>
                <a:arcTo wR="3600" hR="3600" stAng="10800000" swAng="5400000"/>
                <a:lnTo>
                  <a:pt x="15911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كم عدد فقرات العمود الفقري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3548160"/>
            <a:ext cx="4249800" cy="576000"/>
          </a:xfrm>
          <a:custGeom>
            <a:avLst/>
            <a:gdLst>
              <a:gd name="textAreaLeft" fmla="*/ 67680 w 4249800"/>
              <a:gd name="textAreaRight" fmla="*/ 4182120 w 4249800"/>
              <a:gd name="textAreaTop" fmla="*/ 67680 h 576000"/>
              <a:gd name="textAreaBottom" fmla="*/ 508320 h 576000"/>
            </a:gdLst>
            <a:ahLst/>
            <a:rect l="textAreaLeft" t="textAreaTop" r="textAreaRight" b="textAreaBottom"/>
            <a:pathLst>
              <a:path w="15928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681" y="21600"/>
                </a:lnTo>
                <a:arcTo wR="3600" hR="3600" stAng="10800000" swAng="5400000"/>
                <a:lnTo>
                  <a:pt x="159281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ما الأمراض التي تصيب أجهزة جسمك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548160"/>
            <a:ext cx="4248000" cy="576000"/>
          </a:xfrm>
          <a:custGeom>
            <a:avLst/>
            <a:gdLst>
              <a:gd name="textAreaLeft" fmla="*/ 67680 w 4248000"/>
              <a:gd name="textAreaRight" fmla="*/ 4180320 w 4248000"/>
              <a:gd name="textAreaTop" fmla="*/ 67680 h 576000"/>
              <a:gd name="textAreaBottom" fmla="*/ 508320 h 576000"/>
            </a:gdLst>
            <a:ahLst/>
            <a:rect l="textAreaLeft" t="textAreaTop" r="textAreaRight" b="textAreaBottom"/>
            <a:pathLst>
              <a:path w="1592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614" y="21600"/>
                </a:lnTo>
                <a:arcTo wR="3600" hR="3600" stAng="10800000" swAng="5400000"/>
                <a:lnTo>
                  <a:pt x="159214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Arial"/>
              </a:rPr>
              <a:t>عدد بعضاً من الطرق المحافظة على أجهزة جسمك؟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4195800"/>
            <a:ext cx="4249800" cy="576360"/>
          </a:xfrm>
          <a:custGeom>
            <a:avLst/>
            <a:gdLst>
              <a:gd name="textAreaLeft" fmla="*/ 67680 w 4249800"/>
              <a:gd name="textAreaRight" fmla="*/ 4182120 w 424980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1591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582" y="21600"/>
                </a:lnTo>
                <a:arcTo wR="3600" hR="3600" stAng="10800000" swAng="5400000"/>
                <a:lnTo>
                  <a:pt x="15918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عدد بعض المناطق التي توجد بها مفاصل في الجسم؟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195800"/>
            <a:ext cx="4248000" cy="576360"/>
          </a:xfrm>
          <a:custGeom>
            <a:avLst/>
            <a:gdLst>
              <a:gd name="textAreaLeft" fmla="*/ 67680 w 4248000"/>
              <a:gd name="textAreaRight" fmla="*/ 4180320 w 424800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15911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515" y="21600"/>
                </a:lnTo>
                <a:arcTo wR="3600" hR="3600" stAng="10800000" swAng="5400000"/>
                <a:lnTo>
                  <a:pt x="15911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ل تتشابه عظامك ؟ هات مثال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4843440"/>
            <a:ext cx="4249800" cy="576360"/>
          </a:xfrm>
          <a:custGeom>
            <a:avLst/>
            <a:gdLst>
              <a:gd name="textAreaLeft" fmla="*/ 67680 w 4249800"/>
              <a:gd name="textAreaRight" fmla="*/ 4182120 w 424980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1591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582" y="21600"/>
                </a:lnTo>
                <a:arcTo wR="3600" hR="3600" stAng="10800000" swAng="5400000"/>
                <a:lnTo>
                  <a:pt x="15918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عضلات في الجسم نوعان . أذكرها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843440"/>
            <a:ext cx="4248000" cy="576360"/>
          </a:xfrm>
          <a:custGeom>
            <a:avLst/>
            <a:gdLst>
              <a:gd name="textAreaLeft" fmla="*/ 67680 w 4248000"/>
              <a:gd name="textAreaRight" fmla="*/ 4180320 w 424800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15911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515" y="21600"/>
                </a:lnTo>
                <a:arcTo wR="3600" hR="3600" stAng="10800000" swAng="5400000"/>
                <a:lnTo>
                  <a:pt x="15911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ما الجهاز الذي يقوم بعملية التنفس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5491080"/>
            <a:ext cx="4249800" cy="576360"/>
          </a:xfrm>
          <a:custGeom>
            <a:avLst/>
            <a:gdLst>
              <a:gd name="textAreaLeft" fmla="*/ 67680 w 4249800"/>
              <a:gd name="textAreaRight" fmla="*/ 4182120 w 424980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1591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582" y="21600"/>
                </a:lnTo>
                <a:arcTo wR="3600" hR="3600" stAng="10800000" swAng="5400000"/>
                <a:lnTo>
                  <a:pt x="15918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ذكر المجموعات الغذائية الأربع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491080"/>
            <a:ext cx="4248000" cy="576360"/>
          </a:xfrm>
          <a:custGeom>
            <a:avLst/>
            <a:gdLst>
              <a:gd name="textAreaLeft" fmla="*/ 67680 w 4248000"/>
              <a:gd name="textAreaRight" fmla="*/ 4180320 w 424800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15911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515" y="21600"/>
                </a:lnTo>
                <a:arcTo wR="3600" hR="3600" stAng="10800000" swAng="5400000"/>
                <a:lnTo>
                  <a:pt x="15911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ما هو الإخراج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130800"/>
            <a:ext cx="8569080" cy="576360"/>
          </a:xfrm>
          <a:custGeom>
            <a:avLst/>
            <a:gdLst>
              <a:gd name="textAreaLeft" fmla="*/ 67680 w 8569080"/>
              <a:gd name="textAreaRight" fmla="*/ 8501400 w 8569080"/>
              <a:gd name="textAreaTop" fmla="*/ 67680 h 576360"/>
              <a:gd name="textAreaBottom" fmla="*/ 508680 h 576360"/>
            </a:gdLst>
            <a:ahLst/>
            <a:rect l="textAreaLeft" t="textAreaTop" r="textAreaRight" b="textAreaBottom"/>
            <a:pathLst>
              <a:path w="32095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7353" y="21600"/>
                </a:lnTo>
                <a:arcTo wR="3600" hR="3600" stAng="10800000" swAng="5400000"/>
                <a:lnTo>
                  <a:pt x="320953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أكمل الفراغ بالكلمة المناسبة : تعتبر عضلة القلب عضلة 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92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1925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192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192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92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192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192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192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92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192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192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192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92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925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192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192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92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925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192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192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92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1925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192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192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92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192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192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192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92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192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192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192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92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192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192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192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92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192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192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192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92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192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192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192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92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192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192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192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92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925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192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192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92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192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192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192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92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1925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192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192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92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192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192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192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92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192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192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192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06560" y="260280"/>
            <a:ext cx="432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تقسيم العمل بين طلاب الفص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48040" y="1268280"/>
            <a:ext cx="5832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</a:rPr>
              <a:t>عدد الطلاب :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طال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48040" y="2276640"/>
            <a:ext cx="5832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</a:rPr>
              <a:t>يقسم الطلاب إلى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مجموع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48040" y="3500280"/>
            <a:ext cx="5832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</a:rPr>
              <a:t>في كل مجموعة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طلا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6400" y="4651200"/>
            <a:ext cx="5832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يبقى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طلاب لتدوين وتسجيل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عن طريق البرامج المت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4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338560" y="331920"/>
            <a:ext cx="432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تقسيم العمل بين المجموعات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907920"/>
            <a:ext cx="0" cy="50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23640" y="1417680"/>
            <a:ext cx="6948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72360" y="139536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989000"/>
            <a:ext cx="1800000" cy="14414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مجموعة الثالث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جهاز ال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1990800"/>
            <a:ext cx="1800000" cy="14414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مجموعة الأول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جهاز الهيكل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5280" y="1990800"/>
            <a:ext cx="1800360" cy="14414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مجموعة الثان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جهاز الهضم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1407960"/>
            <a:ext cx="0" cy="2165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04840" y="3573360"/>
            <a:ext cx="1800360" cy="14414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مجموعة الخامس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جهاز الاخراج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02160" y="3568680"/>
            <a:ext cx="1800360" cy="14414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مجموعة الرابع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جهاز التنفس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140796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140796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413000"/>
            <a:ext cx="0" cy="2165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0320" y="5443560"/>
            <a:ext cx="4968720" cy="7938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مجموعة السادسة الجهاز العصب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3424320"/>
            <a:ext cx="0" cy="2381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72360" y="3429000"/>
            <a:ext cx="0" cy="2381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5805360"/>
            <a:ext cx="9367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164360" y="5805360"/>
            <a:ext cx="1008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87640" y="115920"/>
            <a:ext cx="540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تقسيم العمل بين طلاب المجموعة الأول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67640" y="90792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أو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90792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سيقوم بتعريف الجهاز الهيكلي ـ مقابلة طبي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060640"/>
            <a:ext cx="936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ثان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2060640"/>
            <a:ext cx="4392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جمع معلومات عن الأعضاء التي يتكون منها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جهاز الهيكلي ـ صنع نموذج لأحد الأعض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67640" y="321300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ثال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321300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تعرف على وظيفة كل عضو من الأعض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تي يتكون منها الجهاز الهيكلي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363920"/>
            <a:ext cx="936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راب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4363920"/>
            <a:ext cx="439236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ذكر الأمراض التي تصيب الجهاز الهيكل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وأسباب كل مرض ـ جمع صو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7640" y="5516640"/>
            <a:ext cx="936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طال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خام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5516640"/>
            <a:ext cx="4392720" cy="93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يجمع معلومات عن طرق المحافظة على الجها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الهيكلي ـ كتابة تقرير مبسط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19956000">
            <a:off x="556920" y="383760"/>
            <a:ext cx="205740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جموع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جهاز الهيكل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11:29:07Z</dcterms:created>
  <dc:creator>owner</dc:creator>
  <dc:description/>
  <dc:language>en-US</dc:language>
  <cp:lastModifiedBy>owner</cp:lastModifiedBy>
  <dcterms:modified xsi:type="dcterms:W3CDTF">2012-05-11T10:41:47Z</dcterms:modified>
  <cp:revision>72</cp:revision>
  <dc:subject/>
  <dc:title>الشريحة 1</dc:title>
</cp:coreProperties>
</file>